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1D6F-8F79-4F61-8330-59BEC27DA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5B82-2F60-4F3A-BC80-475F4A0AA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B1F9-3A88-4A20-87EB-AF746DCDD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48B6-F3E8-46F8-98AA-BB5AF3354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8884-7AC7-4C94-9FB0-95294E8BD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8C90-1275-4ADF-8481-CDBB50DBE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5479-FF32-4B9D-9FC4-F30371440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3E6F-FDD9-4563-B22E-407CB36750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5685-32B1-449E-BB29-AD3EDE3105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A9FC-9A97-4B6A-B07B-78167A074C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75D1-EB75-4C16-95AC-A0C493B61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D5E7-C098-4EBF-B7CC-074C3504F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DCD1-B6D6-4FA2-B2ED-764461FBBF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AEC9-9733-4030-9BC4-1A1C7A0EA0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3B41-E484-4B9A-B2F3-297C0F1C4B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4F25-BAC6-45D7-BD0C-EB2D34BE58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7951-FCA8-4C46-BCC3-106A8DA809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B5B-1495-4E9A-BECE-370B19E4BA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F19-AFCD-4566-8DF6-AE42C54CB4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E8B-5B08-4BA7-90D3-35A4A74FD6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9AD-6436-4F11-A6D4-4F58F7EAED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EB2-C087-43C0-B014-C06453D11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3C11-AC81-4535-B700-322C487038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59B-C44F-443C-BB78-08AF626EB0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CB2-FD83-4836-ABD4-C2B6374AAA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5C5-63E8-4333-BB3E-3C6B9CD91C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3A6-B4D6-4E7A-B600-EEA126D5B2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E7E-A9EA-47F2-B0A4-74ED9C2C86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0AA-36F9-4556-AD37-049C562379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217-68C3-4DF8-A15F-A6B7EC543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1112-77DD-4969-A519-E6668BFEB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8094-4DDF-48ED-BA98-C4236F04C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2C00-1F38-439A-AFC7-B86D8DEE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E09E-78D4-4755-B00C-0D0897806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1C0C-0029-4092-B05A-BB0572F91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C080-3959-49F7-85BD-3CFF41060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62D-935D-451E-BF02-B7062C3B2C9A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AA5-6027-41C9-B692-1DAE7C05FD3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68C-A90B-4225-85A0-F8559821BBBC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2148-67E2-4110-89B7-1E07B28A39C1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6CA6-4F0B-4508-8C6A-A5AD2B1D9D72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B722-7E4D-47AA-AC85-096203142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E6F7-13DA-4F12-A839-727637733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5FAE-412F-42D0-8261-E01B564D52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52A7-929B-4B25-9932-6B0BE5B51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CB33-378A-4754-8C31-7D487C4E2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E28F-57E7-4520-B75B-B6D9D1099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15T12:11:03Z</dcterms:modified>
  <cp:revision>330</cp:revision>
  <dc:subject/>
  <dc:title>PHE R&amp;D Organization Charts</dc:title>
</cp:coreProperties>
</file>